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BF44-BD00-4E24-994D-9CC4E19E6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5D36-DEA2-4BCC-ADD9-A048941D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3EF3-22B5-4A0F-A77E-89DD5B5CC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3CCB-41C6-4134-84DE-C21B2EE20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E8EE-22C5-469F-BB0F-91FE3257B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52CB-512A-456E-ACAB-4A27D78A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82B6-5551-480E-A5DB-C9BA67AB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6E85-A8CF-4056-8BDA-6A85ADAB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E8C9-D996-487A-BC54-01150B25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1E16-8403-46BB-8BEA-A20C423C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A1F9-278E-44F9-BB97-C82A1F9C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0548-06BE-4F83-9B2C-3275BBDE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E8F1-BE92-48C6-9DA9-1E59AA0E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3289-6D71-4D11-BEB8-1B8D3B0E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0180-2D31-48C7-AF95-0E5BCEE5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E0E4-82EE-4EC2-A4B5-873BCDEF1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4D9C-0737-4D72-9670-1A68ECAB2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D00F5-467D-4026-987A-A96A5D239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5224E-B6AB-4573-8807-E6987F11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D3C11-6A26-48CE-96BA-0FD4F164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3C09A-F20C-4BB8-A80F-1B5F2A08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C325C-7C12-4AC1-9C18-BDCFDA12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BC6E-3AA0-4162-BADF-5BFC5245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E89C9-0773-49A7-9DEE-E834CD9E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BD56E-EEF5-4BFD-ABE7-22B438F2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3D75A-38B3-4240-8FEF-B826BF13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56DD5-3C65-4F25-AA83-4929716E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8AE8B-D6A2-46B1-9D9A-2B783A58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5D4EC-6778-42E4-83A1-C6EF8E94D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1076A-30BC-4557-809B-FB120FD70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5FFA-98FB-498D-8166-F53844D3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D37A-DAE5-48FB-A72E-609CB2E5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581B-790E-437B-9A48-2DCE5199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B1BE-05AF-4ECE-B125-EDAB8B2F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2940-15BA-44BD-A1BC-E099AD7F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BE08-7647-4A21-8F61-078483BA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E9DC-2AE8-4D54-9FA1-EA42357E2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C35D-AC75-4EAD-9051-FAA9E5983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8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9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0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2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1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9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6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7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3120-F7C6-4091-B6AF-9E31180EF9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We S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chanism of S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5" descr="page17"/>
          <p:cNvPicPr/>
          <p:nvPr/>
        </p:nvPicPr>
        <p:blipFill>
          <a:blip r:embed="rId1"/>
          <a:stretch/>
        </p:blipFill>
        <p:spPr>
          <a:xfrm>
            <a:off x="5334120" y="1219320"/>
            <a:ext cx="32288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the E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6" descr="eye"/>
          <p:cNvPicPr/>
          <p:nvPr/>
        </p:nvPicPr>
        <p:blipFill>
          <a:blip r:embed="rId1"/>
          <a:stretch/>
        </p:blipFill>
        <p:spPr>
          <a:xfrm>
            <a:off x="1752480" y="1143000"/>
            <a:ext cx="5715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Receptor Cells in the Ey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ds and c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nd at the back of the ret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ips stick out to catch l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ds see low intensity light, black and wh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es see high intensity light and see col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7" descr="rod_cone"/>
          <p:cNvPicPr/>
          <p:nvPr/>
        </p:nvPicPr>
        <p:blipFill>
          <a:blip r:embed="rId1"/>
          <a:stretch/>
        </p:blipFill>
        <p:spPr>
          <a:xfrm>
            <a:off x="5046840" y="1600200"/>
            <a:ext cx="3244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Reti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ds and cones reach the surface of the re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re attached to smaller ner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nerves gather to become the optic ner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5" descr="rodcone"/>
          <p:cNvPicPr/>
          <p:nvPr/>
        </p:nvPicPr>
        <p:blipFill>
          <a:blip r:embed="rId1"/>
          <a:stretch/>
        </p:blipFill>
        <p:spPr>
          <a:xfrm>
            <a:off x="4653000" y="2228760"/>
            <a:ext cx="403380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ods and Con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n microscope picture of rods and c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es are the short, stumpy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ds are the longer, straighter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5" descr="fig3-61retinarods-conesTN"/>
          <p:cNvPicPr/>
          <p:nvPr/>
        </p:nvPicPr>
        <p:blipFill>
          <a:blip r:embed="rId1"/>
          <a:stretch/>
        </p:blipFill>
        <p:spPr>
          <a:xfrm>
            <a:off x="4680000" y="1600200"/>
            <a:ext cx="397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hodops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he r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hodopsin is 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 pro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 receptor embedded in the membr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7" descr="thumbnail"/>
          <p:cNvPicPr/>
          <p:nvPr/>
        </p:nvPicPr>
        <p:blipFill>
          <a:blip r:embed="rId1"/>
          <a:stretch/>
        </p:blipFill>
        <p:spPr>
          <a:xfrm>
            <a:off x="4653000" y="1965240"/>
            <a:ext cx="403380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hodops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hodopsin is made of 2 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hodopsin = retinene + ops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ht hits rhodopsin and splits rhodopsin into retinene and ops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litting of rhodopsin causes the start of nerve impul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rve impulse travels to optic nerve then br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hodops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see again retinene and opsin have to get back toge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P is required to do th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s why we get tired looking at bright lights, computer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7"/>
          <p:cNvGrpSpPr/>
          <p:nvPr/>
        </p:nvGrpSpPr>
        <p:grpSpPr>
          <a:xfrm>
            <a:off x="2286000" y="2166840"/>
            <a:ext cx="4572000" cy="2470320"/>
            <a:chOff x="2286000" y="2166840"/>
            <a:chExt cx="4572000" cy="2470320"/>
          </a:xfrm>
        </p:grpSpPr>
        <p:sp>
          <p:nvSpPr>
            <p:cNvPr id="274" name="Rectangle 4"/>
            <p:cNvSpPr/>
            <p:nvPr/>
          </p:nvSpPr>
          <p:spPr>
            <a:xfrm>
              <a:off x="2286000" y="2166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5"/>
            <p:cNvSpPr/>
            <p:nvPr/>
          </p:nvSpPr>
          <p:spPr>
            <a:xfrm>
              <a:off x="2286000" y="2166840"/>
              <a:ext cx="4572000" cy="247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0" lang="en-US" sz="156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 See Colou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es see col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only have 3 colour receptors: red blue and gr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lours we see are determined by how many and what type of colour cones are jiggl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12" descr="hueanat"/>
          <p:cNvPicPr/>
          <p:nvPr/>
        </p:nvPicPr>
        <p:blipFill>
          <a:blip r:embed="rId1"/>
          <a:stretch/>
        </p:blipFill>
        <p:spPr>
          <a:xfrm>
            <a:off x="4495680" y="1295280"/>
            <a:ext cx="3962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9T16:18:09Z</dcterms:created>
  <dc:creator>OHS</dc:creator>
  <dc:description/>
  <dc:language>en-US</dc:language>
  <cp:lastModifiedBy>Ward, Jeffrey    (ASD-W)</cp:lastModifiedBy>
  <cp:lastPrinted>2017-03-03T19:29:01Z</cp:lastPrinted>
  <dcterms:modified xsi:type="dcterms:W3CDTF">2017-03-03T19:29:07Z</dcterms:modified>
  <cp:revision>10</cp:revision>
  <dc:subject/>
  <dc:title>How We See</dc:title>
</cp:coreProperties>
</file>